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D008D-676C-49F5-B1CB-F062E3E68B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CAE81-8BA9-4DC4-9155-D9538D8A3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vironment.nationalgeographic.com/environment/global-warming/ozone-depletion-over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esin.org/docs/011-466/011-46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reennature.com/article59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limate.org/topics/ozone-deple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3EB51-2C6A-4507-BE61-EDD1B8B8F1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FE8-37C4-408B-8550-B07A01FA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52A-1C2B-4190-A5C1-C7449BB5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574-7D79-41B9-BC7D-A8075726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3D0-BFF5-4964-8A9B-E7E062ED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5E5-E859-4C48-B661-2CB8154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622-91A3-4F09-AC91-9B15EC87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F66-07D1-4B01-A66A-B4C2834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660-BF95-4339-8C28-8C71C3B2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48B-2A55-4251-8019-7DB2328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A27-4E3A-45DB-B3A6-C6714ED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FB2-8DAF-49BB-A8F2-421915EA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FAE-8E61-42B7-8F11-0318298C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3C7FA-C7A0-46C2-B21C-1FF276B639D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E0319-204A-4DDD-8D9F-2452CECBFA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By : Jessica Harrison &amp; Kelly Grani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we don’t save the Oz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ace life would be negatively effec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mpuratures would be drier and more hotter cau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ore forest f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Limited activity for all surface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kin canc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cipe for an Ozone hol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youtube.com/watch?v=qUfVMogIdr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environment.nationalgeographic.com/environment/global-warming/ozone-depletion-overview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ciesin.org/docs/011-466/011-466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greennature.com/article592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climate.org/topics/ozone-depletion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M WITH 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R BRUSKI ? &lt;3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Ozon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s made up of oxygen ato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molecules of oxygen = O3 = oz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rounds the stratosphere of the Earth’s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57200" y="1930320"/>
            <a:ext cx="4290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the Ozone does for 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’s belt of natural gases that serve as a shield from harmful UV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bs the harmful ultraviolet rays (UV-B) from the s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bs 97% - 99% of sun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145120" y="1219320"/>
            <a:ext cx="35416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zone ho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where the most sunlight is let 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d wea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F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lu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770360" y="1417680"/>
            <a:ext cx="43736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zone Hole Overti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6600" y="1600200"/>
            <a:ext cx="903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we are destroying the Oz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 believe that humans are the main reason of the oceans deple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 made chemicals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FC’s (Chlorofluorocarbons)  an organic compound that is one of the main reasons for the Ozones deple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ural Causes lik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Cold weather in Antarct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re CFC’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680"/>
            <a:ext cx="4114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’re the number one contributors to the Ozone deple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FC’s reach the Ozo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un light breaks it down makes atomic chlori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tomic chlorine destroys Ozo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200480" y="990720"/>
            <a:ext cx="4714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tural Causes for Ozone Deple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d weather in Antarc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polar stratosphere clouds that release atomic chlo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chlorine molecule can destroy thousands of oz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4:01:51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16T14:24:09Z</dcterms:modified>
  <cp:revision>20</cp:revision>
  <dc:subject/>
  <dc:title>Ozone Depletion</dc:title>
</cp:coreProperties>
</file>